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7DE-E156-47D9-95C7-E0E8DE59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B55-D1A0-4C35-9F26-2F5AA4CE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434-E19D-4853-AB2D-031A0B8C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44B-9062-4E9B-B081-4239A3BB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4EEB-EBB8-4831-B4ED-83B6D2F4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488E-ECAD-47BC-9D70-40AC5426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2473-974E-4AD8-B768-D0DD7463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7E41-1D5A-4548-BEB7-97981480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D6E3-7040-41B7-AA0D-968AA9D6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3B83-9D95-4310-8CD7-2CF07841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5A0B-2AE6-4A62-878F-7FF0013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373-9463-4930-8044-A578B3A4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DB2E-D59E-4E4F-81D3-59C57538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D25A-BD99-4E6E-A2AC-9D3CC15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4F5F-A039-471F-B612-13CEC21A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52DF-E4F8-4F3E-AA49-7771C8C3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E76E-93CA-41D9-BEC5-26FB67FC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804-C7B1-46A6-B685-C1F905C4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83A-F520-424C-B205-E03CD23C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C19-2C3D-4CBB-A5FE-1A63FC13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C29-7540-4124-8E23-83637F94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284-E231-4EF0-8450-9A482BD8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747-780B-4753-AAF4-A95B18CF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DBE-46AA-4371-A824-4B79B908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A063-02C8-4C05-92EB-A9EE5F6C7BF6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29A1-ED16-45D4-8336-666F66FD1C97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5184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Edgewood Middle School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Peer Buddy Program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ome More Sensitivity Experiment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 Off the Floor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are asked to get off the floor from a lying position.  They are not allowed to use their head or neck muscles to assist them with getting off the floo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und Off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watch a short movie clip with the sound off.  They are asked to follow the plot and determine what genre of movie they are watchin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ssion 4-Scenarios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discuss a series of “possible scenarios” that they may encounter with their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gether, the Peer Buddies practice problem solving skills and determine how to help their Buddy in the given scenario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ssion 5-Classroom Observ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are assigned a Buddy/Buddies to work wit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observe the class of their Buddy.  This may be an academic class or another Creative Arts clas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make notes about the structure of the class to help them prepare for working with their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Responsibilit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ce assigned to a Buddy, Peer Buddies work directly with their Buddy to assist with school work and socializa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are required to complete five reflective journals throughout their experienc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Discussion Day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roughout the semester, the Peer Buddies meet as a large group to share their successes and challeng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eer Buddies have an opportunity to problem-solve through any challenges they may be experienc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Do Student Choose to Become Peer Buddie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8229600" cy="32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coming Frien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derstanding that we’re all differe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ing things togeth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dicated to doing the right th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u can make a differenc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ore than just a clas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gain the understanding of what is like to have a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learn sensitivity towards someone with a disabil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form a positive relationship with a peer who has a significant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are given the opportunity to make a difference in someone else’s lif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ch Peer Buddy completes a series of training sessions so he/she is well prepared to work with his/her Budd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udents are given the opportunity to have open and honest conversations about becoming a Peer Budd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ssion 1-Documentar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watch a documentary film about young adults living with disabiliti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get the opportunity to see what similarities they have to those in the vide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participate in thoughtful discussion about what they currently know about people with disabilitie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ssion 2-Disability Researc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research information on different disabiliti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share with each other the important information they found on the disability they researche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Peer Buddies learn about specific characteristics and strategies they can use when working with a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ssion 3-Sensitivity Experim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participate in a series of sensitivity experiment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gain an understanding of what it is like to have a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er Buddies face similar challenges of their Buddies, allowing for them to learn how to help their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nsitivity Experimen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llowing Direc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have to follow a series of simple directions; however, directions are presented quickly and without visual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tter Puzzl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are given a worksheet containing complicated letter puzzles and are asked to complete the worksheet in a certain amount of time without clear direction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nsitivity Experiments Continued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ssage Reading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are given a paragraph to read and asked to answer questions following the paragraph.  The paragraph is written with letters reversed and omitted without any spacing between word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irror Writing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Peer Buddies are asked to write their name on a piece of paper while looking at their reflection in the mirro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ore Sensitivity Experiments…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indfold Gam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Peer Buddies take turns being blindfolded and completing a task created by their peer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nge in Routin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Peer Buddies are asked to “walk” their schedule; however, there are changes made to their normal schedule.  They are asked to follow their schedule in a certain amount of time, and are not allowed to write their schedule down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25:16Z</dcterms:created>
  <dc:creator>nssd112</dc:creator>
  <dc:description/>
  <dc:language>en-US</dc:language>
  <cp:lastModifiedBy>nssd112</cp:lastModifiedBy>
  <cp:lastPrinted>1904-01-01T00:00:00Z</cp:lastPrinted>
  <dcterms:modified xsi:type="dcterms:W3CDTF">2009-08-27T01:53:56Z</dcterms:modified>
  <cp:revision>9</cp:revision>
  <dc:subject/>
  <dc:title>Edgewood Middle School  Peer Buddy Program</dc:title>
</cp:coreProperties>
</file>